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F53-BBB7-41EA-BD98-2BDC61DC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CEF-9EB5-4A6C-B1CB-7FFEF953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DE4-80C1-406A-9BEB-B0446CE2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E6E-CFB5-44AB-98DB-DC2A3C70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FF1-9234-48BF-B576-4461C3FD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ADE-5D35-43A5-93DE-C3CA7EA1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5DA-03F8-4235-A8CA-E267D53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1EB-5014-45EA-B002-B75841EE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C2A-9F4F-43C2-9B5E-80099493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B14-9ACA-47B7-8153-7B499778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8B3-55AA-4DB3-814D-1F30C8F2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754-1872-449F-954F-3671228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D97-C4B9-4490-A56D-5728B6A2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96960" y="981000"/>
            <a:ext cx="76201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ма Един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Който мисли за мен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всички грижи Той е разреш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8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1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549360"/>
            <a:ext cx="799128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Аз Съм Негов и знам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мам вечен живо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от нищо няма Той да ме лиши.  /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8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1844640"/>
            <a:ext cx="8209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Вярвам във Него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обичам Го аз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Той във всичко победи Сатан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0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549360"/>
            <a:ext cx="79912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Аз Съм Негов и знам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мам вечен живо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от нищо няма Той да ме лиши.  /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7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6765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71440" y="1486080"/>
            <a:ext cx="6801120" cy="46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ека всеки запомни това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да каже тези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чудни слова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1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549360"/>
            <a:ext cx="7991280" cy="52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Аз Съм Негов и знам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мам вечен живо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от нищо няма Той да ме лиши.  /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9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4:34:01Z</dcterms:created>
  <dc:creator>TrifonTrifonow</dc:creator>
  <dc:description/>
  <dc:language>en-US</dc:language>
  <cp:lastModifiedBy>TrifonTrifonow</cp:lastModifiedBy>
  <dcterms:modified xsi:type="dcterms:W3CDTF">2005-12-28T04:34:28Z</dcterms:modified>
  <cp:revision>1</cp:revision>
  <dc:subject/>
  <dc:title>Slide 1</dc:title>
</cp:coreProperties>
</file>